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04F-8F27-4B17-B859-74B19EDD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046-1CA6-4ADD-820B-CCE28A61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6929-9E1F-47EF-8D26-75BE0FDA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9F8-A561-44FD-BAE5-9D4231AC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6127-5A7B-4E9E-977D-8F87A1ED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F9D0-FA9F-45A2-BDD5-6F3E2FF9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5739-6B25-4716-8081-EADFC05B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F9FC-9577-49B6-A3E5-F8B4991A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F932-2469-4A28-A51F-992865AC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6EB5-D790-4262-9C5C-DFC70BED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7432-29F7-4002-9423-5679BDE6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DDB-53B1-417C-8008-F9CA99C9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0360-30B6-44FC-9D8F-6ACF81FC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E1DD-5273-4B00-9395-3071529E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A074-3257-496A-9DF5-1A58B8CC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892C-7C8B-4C52-BFE1-C90A1564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0D93-7F41-4197-8D2A-6E1C0811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434-B655-485D-BFE4-92D4EB22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129-5535-4016-9189-5863A228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9AE-F388-4E13-83BD-ECAB918F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FAB-3892-4D3D-B4BA-F291B728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A42-0CB7-4EB0-A903-5F8A4E4A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FE4-B744-461B-A45A-F95C8139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6C9-3C68-40BA-8498-959962EC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8248-480B-42BB-A765-ECAA1917CE8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C9B0-AE44-4C52-8569-7A36A660E01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RAVE Overview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esented b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lenn Crou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B Consultan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verall Tot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Drop a new Band (not a DataBan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Set the ControllerBand to the DataB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Change the BandStyle to Body Foo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Add a CalcText Component to Sum the LineTotal Parame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Use Labels &amp; Lines to make it stand ou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Add a CalcController to the DataB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Set the CalcText Component to the CalcControll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916360" y="3213000"/>
            <a:ext cx="936360" cy="43344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6360" y="3789360"/>
            <a:ext cx="936360" cy="433440"/>
          </a:xfrm>
          <a:prstGeom prst="rect">
            <a:avLst/>
          </a:prstGeom>
          <a:solidFill>
            <a:srgbClr val="99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ta Mirror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sections of your report depending on a cond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03640" y="1378080"/>
            <a:ext cx="3529080" cy="475128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16360" y="3789360"/>
            <a:ext cx="936360" cy="433440"/>
          </a:xfrm>
          <a:prstGeom prst="rect">
            <a:avLst/>
          </a:prstGeom>
          <a:solidFill>
            <a:srgbClr val="99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16360" y="3213000"/>
            <a:ext cx="936360" cy="43344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16360" y="3213000"/>
            <a:ext cx="936360" cy="43344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16360" y="3213000"/>
            <a:ext cx="936360" cy="43344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6360" y="3789360"/>
            <a:ext cx="936360" cy="433440"/>
          </a:xfrm>
          <a:prstGeom prst="rect">
            <a:avLst/>
          </a:prstGeom>
          <a:solidFill>
            <a:srgbClr val="99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6360" y="3789360"/>
            <a:ext cx="936360" cy="433440"/>
          </a:xfrm>
          <a:prstGeom prst="rect">
            <a:avLst/>
          </a:prstGeom>
          <a:solidFill>
            <a:srgbClr val="99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3469E-006 L 0.37396 -0.2204 E">
                                      <p:cBhvr>
                                        <p:cTn id="244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48844E-006 L 0.37396 -0.20976 E">
                                      <p:cBhvr>
                                        <p:cTn id="247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3469E-006 L 0.37396 -0.02105 E">
                                      <p:cBhvr>
                                        <p:cTn id="250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3469E-006 L 0.37396 0.0629 E">
                                      <p:cBhvr>
                                        <p:cTn id="253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48844E-006 L 0.37396 0.08395 E">
                                      <p:cBhvr>
                                        <p:cTn id="256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48844E-006 L 0.37396 0.19935 E">
                                      <p:cBhvr>
                                        <p:cTn id="259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obal Pa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1700280"/>
            <a:ext cx="2881440" cy="431964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Global Pag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76720" y="1700280"/>
            <a:ext cx="2881440" cy="431964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Report Page 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258920" y="2276640"/>
            <a:ext cx="2016000" cy="649080"/>
            <a:chOff x="1258920" y="2276640"/>
            <a:chExt cx="2016000" cy="649080"/>
          </a:xfrm>
        </p:grpSpPr>
        <p:sp>
          <p:nvSpPr>
            <p:cNvPr id="258" name=""/>
            <p:cNvSpPr/>
            <p:nvPr/>
          </p:nvSpPr>
          <p:spPr>
            <a:xfrm>
              <a:off x="1258920" y="2276640"/>
              <a:ext cx="649080" cy="649080"/>
            </a:xfrm>
            <a:custGeom>
              <a:avLst/>
              <a:gdLst>
                <a:gd name="textAreaLeft" fmla="*/ 267480 w 649080"/>
                <a:gd name="textAreaRight" fmla="*/ 381600 w 649080"/>
                <a:gd name="textAreaTop" fmla="*/ 267480 h 649080"/>
                <a:gd name="textAreaBottom" fmla="*/ 38160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90560" y="227664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ff"/>
                  </a:solidFill>
                  <a:latin typeface="Arial"/>
                </a:rPr>
                <a:t>Company Letterhea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258920" y="2276640"/>
            <a:ext cx="2016000" cy="649080"/>
            <a:chOff x="1258920" y="2276640"/>
            <a:chExt cx="2016000" cy="649080"/>
          </a:xfrm>
        </p:grpSpPr>
        <p:sp>
          <p:nvSpPr>
            <p:cNvPr id="261" name=""/>
            <p:cNvSpPr/>
            <p:nvPr/>
          </p:nvSpPr>
          <p:spPr>
            <a:xfrm>
              <a:off x="1258920" y="2276640"/>
              <a:ext cx="649080" cy="649080"/>
            </a:xfrm>
            <a:custGeom>
              <a:avLst/>
              <a:gdLst>
                <a:gd name="textAreaLeft" fmla="*/ 267480 w 649080"/>
                <a:gd name="textAreaRight" fmla="*/ 381600 w 649080"/>
                <a:gd name="textAreaTop" fmla="*/ 267480 h 649080"/>
                <a:gd name="textAreaBottom" fmla="*/ 38160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5b2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90560" y="227664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ff"/>
                  </a:solidFill>
                  <a:latin typeface="Arial"/>
                </a:rPr>
                <a:t>Company Letterhea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258920" y="2276640"/>
            <a:ext cx="2016000" cy="649080"/>
            <a:chOff x="1258920" y="2276640"/>
            <a:chExt cx="2016000" cy="649080"/>
          </a:xfrm>
        </p:grpSpPr>
        <p:sp>
          <p:nvSpPr>
            <p:cNvPr id="264" name=""/>
            <p:cNvSpPr/>
            <p:nvPr/>
          </p:nvSpPr>
          <p:spPr>
            <a:xfrm>
              <a:off x="1258920" y="2276640"/>
              <a:ext cx="649080" cy="649080"/>
            </a:xfrm>
            <a:custGeom>
              <a:avLst/>
              <a:gdLst>
                <a:gd name="textAreaLeft" fmla="*/ 267480 w 649080"/>
                <a:gd name="textAreaRight" fmla="*/ 381600 w 649080"/>
                <a:gd name="textAreaTop" fmla="*/ 267480 h 649080"/>
                <a:gd name="textAreaBottom" fmla="*/ 38160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5b2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90560" y="227664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ff"/>
                  </a:solidFill>
                  <a:latin typeface="Arial"/>
                </a:rPr>
                <a:t>Company Letterhea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508720" y="2238480"/>
            <a:ext cx="2016000" cy="649080"/>
            <a:chOff x="5508720" y="2238480"/>
            <a:chExt cx="2016000" cy="649080"/>
          </a:xfrm>
        </p:grpSpPr>
        <p:sp>
          <p:nvSpPr>
            <p:cNvPr id="267" name=""/>
            <p:cNvSpPr/>
            <p:nvPr/>
          </p:nvSpPr>
          <p:spPr>
            <a:xfrm>
              <a:off x="5508720" y="2238480"/>
              <a:ext cx="649080" cy="649080"/>
            </a:xfrm>
            <a:custGeom>
              <a:avLst/>
              <a:gdLst>
                <a:gd name="textAreaLeft" fmla="*/ 267480 w 649080"/>
                <a:gd name="textAreaRight" fmla="*/ 381600 w 649080"/>
                <a:gd name="textAreaTop" fmla="*/ 267480 h 649080"/>
                <a:gd name="textAreaBottom" fmla="*/ 38160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940360" y="223848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ff"/>
                  </a:solidFill>
                  <a:latin typeface="Arial"/>
                </a:rPr>
                <a:t>Company Letterhea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8881E-006 L 0.46475 -0.00509 E">
                                      <p:cBhvr>
                                        <p:cTn id="265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280" y="6328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rip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8640" y="2805120"/>
            <a:ext cx="822672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ee the Dem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de Based Desig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Over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o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e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0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6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ve Rend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 you to “save” your reports in different forma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es with renders to do HTML, PDF, RTF, and Tex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ols included to develop your own rend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re renders may soon become avail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VE Ser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for the distributed processing of Report Gener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URL to allow users without the Delphi App to see the reports via Intranet &amp; Intern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ngle User version is FREE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d User Desig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ives users a RAVE IDE like ab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ust package a DLL with your Ap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Party Add-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ustomise and improve the existing RAVE with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 Compon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 Wiza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 Property Edi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 Rend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mo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AVE supplies RANT to develop your own Add-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nostice RAVE Rend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pply sophisticated “export” op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ide choice of configurable outpu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rovements to the HTML, PDF, RTF and Tex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s Excel, JPEG, EMF, WMF, BMP and GIF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26920" y="4941720"/>
            <a:ext cx="7490160" cy="9064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830320" y="589608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http://www.gnostice.c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RAVE and Delph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AVE 5 is now included with Borland Delphi 7 Professional Edition and abov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B Add-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ral available and more on the w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ictTool – Spell checking &amp; Thesaurus Wizar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BTools – includes Popup Calculator and Pos/Neg Colouring Compon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BRaveViewer – Fancy Stand-alone Preview replac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38520" y="595008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cc66"/>
                </a:solidFill>
                <a:latin typeface="Arial"/>
              </a:rPr>
              <a:t>http://www.esbconsult.com/raveadd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Add-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are several free Add-Ons at the Nevrona si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eck regularly for new 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05440" y="4365720"/>
            <a:ext cx="60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cc66"/>
                </a:solidFill>
                <a:latin typeface="Arial"/>
              </a:rPr>
              <a:t>http://www.nevrona.com/rave/addons.shtm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263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re Information can be found a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55880" y="189216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cc66"/>
                </a:solidFill>
                <a:latin typeface="Arial"/>
              </a:rPr>
              <a:t>http://www.nevrona.c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8360" y="2451240"/>
            <a:ext cx="8226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day’s demos and this Presentation can be found a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39960" y="348624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cc66"/>
                </a:solidFill>
                <a:latin typeface="Arial"/>
              </a:rPr>
              <a:t>http://www.esbconsult.com/raveadd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8360" y="4322880"/>
            <a:ext cx="8226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Get RAVE Support at Borland’s RAVE Newsgroup or a Nevrona Newsgroup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69800" y="537372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cc66"/>
                </a:solidFill>
                <a:latin typeface="Arial"/>
              </a:rPr>
              <a:t>http://www.nevrona.com/suppo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VE Training Vide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azoo Software have started to release Online RAVE Training Videos. They are currently offering quarterly and yearly subscriptions that get you access to every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3600" y="450864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cc66"/>
                </a:solidFill>
                <a:latin typeface="Arial"/>
              </a:rPr>
              <a:t>http://www.kazoosoft.com/videos.aspx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VE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uple of months after Delphi 1 - ReportPrinter v1 which was released. It was purely a code-based Repor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ter in 1995 - v1.1 added Previewing and Memo suppor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d 1996 - v2 ReportPrinter Pro - more sophisticated cod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rly 1998 - v3 ReportPrinter Pro &amp; RAVE - added Visual IDE for the first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001 - v4 saw the name change to just RA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002 - v5 – our current ver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VE 5.08BE vs. 5.1.0BE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.08BE – Bundled with Delphi 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.1.0BEX – Extended commercial Ed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urce code – the BEX version comes with full component source code (not the IDE sour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chived” Code Based Components are included with the BEX version for backward compatibi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e frequent upda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pport for TeeChart Pro – the BE version only supports the bundled TeeChar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proved Scripting in 5.1 BE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ned Improvements to BE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tive Char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hanced Wiza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hanced Band Logic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619280" y="1239840"/>
            <a:ext cx="5977080" cy="50385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AVE IDE &amp; Page Based Desig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30920" y="2133720"/>
            <a:ext cx="1145520" cy="3095640"/>
            <a:chOff x="430920" y="2133720"/>
            <a:chExt cx="1145520" cy="3095640"/>
          </a:xfrm>
        </p:grpSpPr>
        <p:sp>
          <p:nvSpPr>
            <p:cNvPr id="225" name=""/>
            <p:cNvSpPr/>
            <p:nvPr/>
          </p:nvSpPr>
          <p:spPr>
            <a:xfrm>
              <a:off x="1436760" y="2133720"/>
              <a:ext cx="139680" cy="3095640"/>
            </a:xfrm>
            <a:custGeom>
              <a:avLst/>
              <a:gdLst>
                <a:gd name="textAreaLeft" fmla="*/ 89280 w 139680"/>
                <a:gd name="textAreaRight" fmla="*/ 140040 w 139680"/>
                <a:gd name="textAreaTop" fmla="*/ 80640 h 3095640"/>
                <a:gd name="textAreaBottom" fmla="*/ 3015000 h 30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94"/>
                  </a:lnTo>
                  <a:cubicBezTo>
                    <a:pt x="10800" y="9894"/>
                    <a:pt x="5400" y="10794"/>
                    <a:pt x="0" y="10794"/>
                  </a:cubicBezTo>
                  <a:cubicBezTo>
                    <a:pt x="5400" y="10794"/>
                    <a:pt x="10800" y="11694"/>
                    <a:pt x="10800" y="1259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0920" y="3429000"/>
              <a:ext cx="10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Property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Pane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645320" y="2133720"/>
            <a:ext cx="966240" cy="3240000"/>
            <a:chOff x="7645320" y="2133720"/>
            <a:chExt cx="966240" cy="3240000"/>
          </a:xfrm>
        </p:grpSpPr>
        <p:sp>
          <p:nvSpPr>
            <p:cNvPr id="228" name=""/>
            <p:cNvSpPr/>
            <p:nvPr/>
          </p:nvSpPr>
          <p:spPr>
            <a:xfrm>
              <a:off x="7645320" y="2133720"/>
              <a:ext cx="144360" cy="3240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84240 h 3240000"/>
                <a:gd name="textAreaBottom" fmla="*/ 3155760 h 32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20560" y="3357720"/>
              <a:ext cx="89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Tre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Pane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0800000">
            <a:off x="7451640" y="1484280"/>
            <a:ext cx="1152720" cy="50328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oolBar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5905440"/>
            <a:ext cx="1224000" cy="576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tatus B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67280" y="4724280"/>
            <a:ext cx="1441440" cy="576360"/>
          </a:xfrm>
          <a:custGeom>
            <a:avLst/>
            <a:gdLst>
              <a:gd name="textAreaLeft" fmla="*/ 196560 w 1441440"/>
              <a:gd name="textAreaRight" fmla="*/ 1244880 w 144144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5725" y="-3560"/>
                  <a:pt x="12925" y="6360"/>
                  <a:pt x="18650" y="1400"/>
                </a:cubicBezTo>
                <a:lnTo>
                  <a:pt x="21600" y="20200"/>
                </a:lnTo>
                <a:cubicBezTo>
                  <a:pt x="15875" y="25160"/>
                  <a:pt x="8675" y="15240"/>
                  <a:pt x="2950" y="20200"/>
                </a:cubicBez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Pag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ill got B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make a simple repor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Databa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Driver Data Vi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n the Tools/Wizard/Simple Listing and choose all the fiel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the Alignment tools to straighten things u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nds in Report Desig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19280" y="1362240"/>
            <a:ext cx="6048360" cy="5097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596360" y="2781360"/>
            <a:ext cx="1403280" cy="1942920"/>
          </a:xfrm>
          <a:prstGeom prst="leftArrowCallout">
            <a:avLst>
              <a:gd name="adj1" fmla="val 34617"/>
              <a:gd name="adj2" fmla="val 34614"/>
              <a:gd name="adj3" fmla="val 16667"/>
              <a:gd name="adj4" fmla="val 6667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ttach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95640" y="4221000"/>
            <a:ext cx="1295640" cy="1081080"/>
          </a:xfrm>
          <a:prstGeom prst="upArrowCallout">
            <a:avLst>
              <a:gd name="adj1" fmla="val 29964"/>
              <a:gd name="adj2" fmla="val 29962"/>
              <a:gd name="adj3" fmla="val 16667"/>
              <a:gd name="adj4" fmla="val 6666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port wi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and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cul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To add Line Total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Add a non-visual CalcOp component to the DataB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Set the Properties of the CalcO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Set the DestParam Property to a name (eg: LineTotal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Make sure the CalcOp is after the items it is referencing and before the item that will reference 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Add a DataText component and assign the LineTotal parameter to 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1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1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5:27:58Z</dcterms:created>
  <dc:creator>Karen Crouch</dc:creator>
  <dc:description/>
  <dc:language>en-US</dc:language>
  <cp:lastModifiedBy>Karen Crouch</cp:lastModifiedBy>
  <dcterms:modified xsi:type="dcterms:W3CDTF">2003-04-07T14:11:05Z</dcterms:modified>
  <cp:revision>36</cp:revision>
  <dc:subject/>
  <dc:title>Reports with RAVE</dc:title>
</cp:coreProperties>
</file>